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ΜΟΚΙΑΣ ΓΙΑΝΝΗ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ΜΟΚΙΑΣ ΓΙΑΝΝΗ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639C-03A0-4446-87D5-12E11098D6D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D4CF-FEDF-4F4F-81FB-5BF14EA9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15DC-ED8B-43A8-9D36-FC4A561C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662A-E2E7-467E-BE44-0F51F866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DD3-1C30-41EB-AF0D-8EE887F4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3056-1B0E-44BC-9538-CCA68E6F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D487-6909-42EF-ACAB-EA8B83C2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3653-6EA0-43CF-A35E-5A9A618C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A526-7C99-481D-B0E3-3CEC39E8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3A05-279F-4404-B221-B277C290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21F6-6158-4474-A2EB-94011FAA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E6B7-D9A1-4283-91E6-47BF3D5C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D6C-5C93-48D8-8330-01CAFF6C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60F5-EFF1-4E79-9FD2-521D6869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A285-1291-4DDF-B2B3-E52EA853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47EC-9A98-41AA-9B8A-6D9C6855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9098-DC67-415D-ADA6-A8291991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2BEC-0D82-431B-8EF5-6D8485EB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D8D-25C1-48E1-893A-7B9CE0AC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E189-9EFF-4451-9410-81C40260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D72-955F-457B-B85D-79985241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4862-03D3-426E-B129-3345B9C3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94ED-2D40-4B08-A005-E750C7D6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00B-9D2F-4D37-9DBA-FDB724F8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F59-96A5-459A-9617-B669BCAD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97A7-7A55-4ED0-AE5D-85AB0A961A7E}" type="slidenum">
              <a:rPr b="0" lang="el-G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896A-DA1B-401C-9FFC-5C36838047ED}" type="slidenum">
              <a:rPr b="0" lang="el-G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32;&#959;&#957;%20&#921;&#947;&#957;&#940;&#964;&#953;&#959;.doc" TargetMode="External"/><Relationship Id="rId2" Type="http://schemas.openxmlformats.org/officeDocument/2006/relationships/hyperlink" Target="file:///&#966;&#940;&#954;&#949;&#955;&#959;&#962;%20&#952;&#961;&#951;&#963;&#954;&#949;&#965;&#964;&#953;&#954;&#974;&#957;/&#931;&#964;&#951;&#957;%20&#913;&#957;&#964;&#953;&#972;&#967;&#949;&#953;&#945;.doc" TargetMode="External"/><Relationship Id="rId3" Type="http://schemas.openxmlformats.org/officeDocument/2006/relationships/hyperlink" Target="file:///&#966;&#940;&#954;&#949;&#955;&#959;&#962;%20&#952;&#961;&#951;&#963;&#954;&#949;&#965;&#964;&#953;&#954;&#974;&#957;/&#952;&#949;&#959;&#966;&#972;&#961;&#959;.doc" TargetMode="External"/><Relationship Id="rId4" Type="http://schemas.openxmlformats.org/officeDocument/2006/relationships/hyperlink" Target="file:///&#966;&#940;&#954;&#949;&#955;&#959;&#962;%20&#952;&#961;&#951;&#963;&#954;&#949;&#965;&#964;&#953;&#954;&#974;&#957;/&#964;&#959;&#965;&#962;%20&#959;&#948;&#951;&#947;&#959;&#973;&#962;.doc" TargetMode="External"/><Relationship Id="rId5" Type="http://schemas.openxmlformats.org/officeDocument/2006/relationships/hyperlink" Target="file:///&#966;&#940;&#954;&#949;&#955;&#959;&#962;%20&#952;&#961;&#951;&#963;&#954;&#949;&#965;&#964;&#953;&#954;&#974;&#957;/&#932;&#951;&#957;%20&#913;&#957;&#940;&#963;&#964;&#945;&#963;&#951;%20&#964;&#959;&#965;%20&#935;&#961;&#953;&#963;&#964;&#959;&#973;.doc" TargetMode="External"/><Relationship Id="rId6" Type="http://schemas.openxmlformats.org/officeDocument/2006/relationships/hyperlink" Target="file:///&#966;&#940;&#954;&#949;&#955;&#959;&#962;%20&#952;&#961;&#951;&#963;&#954;&#949;&#965;&#964;&#953;&#954;&#974;&#957;/&#919;%20&#954;&#945;&#956;&#960;&#940;&#957;&#945;.doc" TargetMode="External"/><Relationship Id="rId7" Type="http://schemas.openxmlformats.org/officeDocument/2006/relationships/hyperlink" Target="file:///&#966;&#940;&#954;&#949;&#955;&#959;&#962;%20&#952;&#961;&#951;&#963;&#954;&#949;&#965;&#964;&#953;&#954;&#974;&#957;/&#932;&#951;&#962;%20&#949;&#954;&#954;&#955;&#951;&#963;&#943;&#945;&#962;%20&#964;&#959;&#965;%20&#935;&#961;&#953;&#963;&#964;&#959;&#973;.doc" TargetMode="External"/><Relationship Id="rId8" Type="http://schemas.openxmlformats.org/officeDocument/2006/relationships/hyperlink" Target="file:///&#966;&#940;&#954;&#949;&#955;&#959;&#962;%20&#952;&#961;&#951;&#963;&#954;&#949;&#965;&#964;&#953;&#954;&#974;&#957;/&#960;&#945;&#957;&#951;&#947;&#965;&#961;&#940;&#962;.doc" TargetMode="External"/><Relationship Id="rId9" Type="http://schemas.openxmlformats.org/officeDocument/2006/relationships/hyperlink" Target="file:///&#966;&#940;&#954;&#949;&#955;&#959;&#962;%20&#952;&#961;&#951;&#963;&#954;&#949;&#965;&#964;&#953;&#954;&#974;&#957;/&#913;&#960;&#972;%20&#964;&#951;&#957;%20&#921;&#949;&#950;&#940;&#946;&#949;&#955;.doc" TargetMode="External"/><Relationship Id="rId10" Type="http://schemas.openxmlformats.org/officeDocument/2006/relationships/hyperlink" Target="file:///&#966;&#940;&#954;&#949;&#955;&#959;&#962;%20&#952;&#961;&#951;&#963;&#954;&#949;&#965;&#964;&#953;&#954;&#974;&#957;/&#931;&#964;&#951;&#957;%20&#941;&#961;&#951;&#956;&#959;%20&#964;&#951;&#962;%20&#913;&#953;&#947;&#973;&#960;&#964;&#959;&#965;.doc" TargetMode="Externa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24;&#949;%20&#964;&#959;%20&#946;&#940;&#960;&#964;&#953;&#963;&#956;&#945;.doc" TargetMode="External"/><Relationship Id="rId2" Type="http://schemas.openxmlformats.org/officeDocument/2006/relationships/hyperlink" Target="file:///&#966;&#940;&#954;&#949;&#955;&#959;&#962;%20&#952;&#961;&#951;&#963;&#954;&#949;&#965;&#964;&#953;&#954;&#974;&#957;/&#932;&#959;%20&#955;&#940;&#948;&#953;.doc" TargetMode="External"/><Relationship Id="rId3" Type="http://schemas.openxmlformats.org/officeDocument/2006/relationships/hyperlink" Target="file:///&#966;&#940;&#954;&#949;&#955;&#959;&#962;%20&#952;&#961;&#951;&#963;&#954;&#949;&#965;&#964;&#953;&#954;&#974;&#957;/&#932;&#959;%20&#957;&#949;&#961;&#972;.doc" TargetMode="External"/><Relationship Id="rId4" Type="http://schemas.openxmlformats.org/officeDocument/2006/relationships/hyperlink" Target="file:///&#966;&#940;&#954;&#949;&#955;&#959;&#962;%20&#952;&#961;&#951;&#963;&#954;&#949;&#965;&#964;&#953;&#954;&#974;&#957;/&#932;&#959;%20&#966;&#969;&#962;.doc" TargetMode="External"/><Relationship Id="rId5" Type="http://schemas.openxmlformats.org/officeDocument/2006/relationships/hyperlink" Target="file:///&#966;&#940;&#954;&#949;&#955;&#959;&#962;%20&#952;&#961;&#951;&#963;&#954;&#949;&#965;&#964;&#953;&#954;&#974;&#957;/&#932;&#959;%20&#955;&#949;&#965;&#954;&#972;%20&#967;&#961;&#974;&#956;&#945;.doc" TargetMode="External"/><Relationship Id="rId6" Type="http://schemas.openxmlformats.org/officeDocument/2006/relationships/hyperlink" Target="file:///&#966;&#940;&#954;&#949;&#955;&#959;&#962;%20&#952;&#961;&#951;&#963;&#954;&#949;&#965;&#964;&#953;&#954;&#974;&#957;/&#913;&#960;&#972;%20&#964;&#951;&#957;%20&#954;&#959;&#955;&#965;&#956;&#960;&#942;&#952;&#961;&#945;.doc" TargetMode="External"/><Relationship Id="rId7" Type="http://schemas.openxmlformats.org/officeDocument/2006/relationships/hyperlink" Target="file:///&#966;&#940;&#954;&#949;&#955;&#959;&#962;%20&#952;&#961;&#951;&#963;&#954;&#949;&#965;&#964;&#953;&#954;&#974;&#957;/&#932;&#961;&#953;&#945;&#954;&#972;&#963;&#953;&#945;%20&#949;&#958;&#942;&#957;&#964;&#945;%20&#960;&#941;&#957;&#964;&#949;.doc" TargetMode="External"/><Relationship Id="rId8" Type="http://schemas.openxmlformats.org/officeDocument/2006/relationships/hyperlink" Target="file:///&#966;&#940;&#954;&#949;&#955;&#959;&#962;%20&#952;&#961;&#951;&#963;&#954;&#949;&#965;&#964;&#953;&#954;&#974;&#957;/&#927;%20&#940;&#947;&#953;&#959;&#962;%20&#925;&#949;&#954;&#964;&#940;&#961;&#953;&#959;&#962;.doc" TargetMode="Externa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40;&#961;&#964;&#959;&#962;%20&#954;&#945;&#953;%20&#959;&#943;&#957;&#959;&#962;.doc" TargetMode="External"/><Relationship Id="rId2" Type="http://schemas.openxmlformats.org/officeDocument/2006/relationships/hyperlink" Target="file:///&#966;&#940;&#954;&#949;&#955;&#959;&#962;%20&#952;&#961;&#951;&#963;&#954;&#949;&#965;&#964;&#953;&#954;&#974;&#957;/&#949;&#963;&#960;&#949;&#961;&#953;&#957;&#972;&#962;.doc" TargetMode="External"/><Relationship Id="rId3" Type="http://schemas.openxmlformats.org/officeDocument/2006/relationships/hyperlink" Target="file:///&#966;&#940;&#954;&#949;&#955;&#959;&#962;%20&#952;&#961;&#951;&#963;&#954;&#949;&#965;&#964;&#953;&#954;&#974;&#957;/&#945;&#961;&#967;&#959;&#957;&#964;&#945;&#961;&#943;&#954;&#953;.doc" TargetMode="External"/><Relationship Id="rId4" Type="http://schemas.openxmlformats.org/officeDocument/2006/relationships/hyperlink" Target="file:///&#966;&#940;&#954;&#949;&#955;&#959;&#962;%20&#952;&#961;&#951;&#963;&#954;&#949;&#965;&#964;&#953;&#954;&#974;&#957;/&#954;&#945;&#952;&#959;&#955;&#953;&#954;&#972;.doc" TargetMode="External"/><Relationship Id="rId5" Type="http://schemas.openxmlformats.org/officeDocument/2006/relationships/hyperlink" Target="file:///&#966;&#940;&#954;&#949;&#955;&#959;&#962;%20&#952;&#961;&#951;&#963;&#954;&#949;&#965;&#964;&#953;&#954;&#974;&#957;/&#945;&#960;&#972;&#948;&#949;&#953;&#960;&#957;&#959;.doc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27;%20&#921;&#969;&#940;&#957;&#957;&#951;1.doc" TargetMode="External"/><Relationship Id="rId2" Type="http://schemas.openxmlformats.org/officeDocument/2006/relationships/hyperlink" Target="file:///&#966;&#940;&#954;&#949;&#955;&#959;&#962;%20&#952;&#961;&#951;&#963;&#954;&#949;&#965;&#964;&#953;&#954;&#974;&#957;/&#919;%20&#904;&#966;&#949;&#963;&#959;&#962;.doc" TargetMode="External"/><Relationship Id="rId3" Type="http://schemas.openxmlformats.org/officeDocument/2006/relationships/hyperlink" Target="file:///&#966;&#940;&#954;&#949;&#955;&#959;&#962;%20&#952;&#961;&#951;&#963;&#954;&#949;&#965;&#964;&#953;&#954;&#974;&#957;/&#932;&#959;&#965;&#962;%20&#957;&#941;&#959;&#965;&#962;.doc" TargetMode="External"/><Relationship Id="rId4" Type="http://schemas.openxmlformats.org/officeDocument/2006/relationships/hyperlink" Target="file:///&#966;&#940;&#954;&#949;&#955;&#959;&#962;%20&#952;&#961;&#951;&#963;&#954;&#949;&#965;&#964;&#953;&#954;&#974;&#957;/&#932;&#951;%20&#963;&#965;&#947;&#967;&#974;&#961;&#951;&#963;&#951;.doc" TargetMode="External"/><Relationship Id="rId5" Type="http://schemas.openxmlformats.org/officeDocument/2006/relationships/hyperlink" Target="file:///&#966;&#940;&#954;&#949;&#955;&#959;&#962;%20&#952;&#961;&#951;&#963;&#954;&#949;&#965;&#964;&#953;&#954;&#974;&#957;/&#927;%20&#935;&#961;&#953;&#963;&#964;&#972;&#962;.doc" TargetMode="External"/><Relationship Id="rId6" Type="http://schemas.openxmlformats.org/officeDocument/2006/relationships/hyperlink" Target="file:///&#966;&#940;&#954;&#949;&#955;&#959;&#962;%20&#952;&#961;&#951;&#963;&#954;&#949;&#965;&#964;&#953;&#954;&#974;&#957;/&#927;%20&#948;&#953;&#940;&#946;&#959;&#955;&#959;&#962;.doc" TargetMode="External"/><Relationship Id="rId7" Type="http://schemas.openxmlformats.org/officeDocument/2006/relationships/hyperlink" Target="file:///&#966;&#940;&#954;&#949;&#955;&#959;&#962;%20&#952;&#961;&#951;&#963;&#954;&#949;&#965;&#964;&#953;&#954;&#974;&#957;/&#927;%20&#913;&#953;&#948;&#941;&#963;&#953;&#959;&#962;%20&#954;&#945;&#953;.doc" TargetMode="Externa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27;%20&#922;&#973;&#961;&#953;&#955;&#955;&#959;&#962;%20&#954;&#945;&#953;.doc" TargetMode="External"/><Relationship Id="rId2" Type="http://schemas.openxmlformats.org/officeDocument/2006/relationships/hyperlink" Target="file:///&#966;&#940;&#954;&#949;&#955;&#959;&#962;%20&#952;&#961;&#951;&#963;&#954;&#949;&#965;&#964;&#953;&#954;&#974;&#957;/&#919;%20&#920;&#949;&#963;&#963;&#945;&#955;&#959;&#957;&#943;&#954;&#951;.doc" TargetMode="External"/><Relationship Id="rId3" Type="http://schemas.openxmlformats.org/officeDocument/2006/relationships/hyperlink" Target="file:///&#966;&#940;&#954;&#949;&#955;&#959;&#962;%20&#952;&#961;&#951;&#963;&#954;&#949;&#965;&#964;&#953;&#954;&#974;&#957;/&#919;%20&#913;&#955;&#949;&#958;&#940;&#957;&#948;&#961;&#949;&#953;&#945;.doc" TargetMode="External"/><Relationship Id="rId4" Type="http://schemas.openxmlformats.org/officeDocument/2006/relationships/hyperlink" Target="file:///&#966;&#940;&#954;&#949;&#955;&#959;&#962;%20&#952;&#961;&#951;&#963;&#954;&#949;&#965;&#964;&#953;&#954;&#974;&#957;/&#927;&#953;%20&#953;&#949;&#961;&#945;&#960;&#972;&#963;&#964;&#959;&#955;&#959;&#953;.doc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27;%20&#940;&#947;&#953;&#959;&#962;%20&#913;&#957;&#948;&#961;&#941;&#945;&#962;.doc" TargetMode="External"/><Relationship Id="rId2" Type="http://schemas.openxmlformats.org/officeDocument/2006/relationships/hyperlink" Target="file:///&#966;&#940;&#954;&#949;&#955;&#959;&#962;%20&#952;&#961;&#951;&#963;&#954;&#949;&#965;&#964;&#953;&#954;&#974;&#957;/&#960;&#961;&#969;&#964;&#972;&#954;&#955;&#951;&#964;&#959;&#962;.doc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32;&#959;%20&#920;&#949;&#972;.doc" TargetMode="External"/><Relationship Id="rId2" Type="http://schemas.openxmlformats.org/officeDocument/2006/relationships/hyperlink" Target="file:///&#966;&#940;&#954;&#949;&#955;&#959;&#962;%20&#952;&#961;&#951;&#963;&#954;&#949;&#965;&#964;&#953;&#954;&#974;&#957;/&#940;&#955;&#955;&#959;.doc" TargetMode="External"/><Relationship Id="rId3" Type="http://schemas.openxmlformats.org/officeDocument/2006/relationships/hyperlink" Target="file:///&#966;&#940;&#954;&#949;&#955;&#959;&#962;%20&#952;&#961;&#951;&#963;&#954;&#949;&#965;&#964;&#953;&#954;&#974;&#957;/&#963;&#965;&#956;&#960;&#949;&#961;&#953;&#966;&#941;&#961;&#959;&#957;&#964;&#945;&#953;.doc" TargetMode="External"/><Relationship Id="rId4" Type="http://schemas.openxmlformats.org/officeDocument/2006/relationships/hyperlink" Target="file:///&#966;&#940;&#954;&#949;&#955;&#959;&#962;%20&#952;&#961;&#951;&#963;&#954;&#949;&#965;&#964;&#953;&#954;&#974;&#957;/&#963;&#965;&#947;&#967;&#969;&#961;&#949;&#943;&#964;&#949;.doc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48;&#961;&#972;&#956;&#959;.doc" TargetMode="External"/><Relationship Id="rId2" Type="http://schemas.openxmlformats.org/officeDocument/2006/relationships/hyperlink" Target="file:///&#966;&#940;&#954;&#949;&#955;&#959;&#962;%20&#952;&#961;&#951;&#963;&#954;&#949;&#965;&#964;&#953;&#954;&#974;&#957;/&#921;&#949;&#961;&#949;&#956;&#943;&#945;&#962;.doc" TargetMode="External"/><Relationship Id="rId3" Type="http://schemas.openxmlformats.org/officeDocument/2006/relationships/hyperlink" Target="file:///&#966;&#940;&#954;&#949;&#955;&#959;&#962;%20&#952;&#961;&#951;&#963;&#954;&#949;&#965;&#964;&#953;&#954;&#974;&#957;/&#947;&#953;&#945;%20&#964;&#959;&#957;%20&#921;&#951;&#963;&#959;&#973;.doc" TargetMode="External"/><Relationship Id="rId4" Type="http://schemas.openxmlformats.org/officeDocument/2006/relationships/hyperlink" Target="file:///&#966;&#940;&#954;&#949;&#955;&#959;&#962;%20&#952;&#961;&#951;&#963;&#954;&#949;&#965;&#964;&#953;&#954;&#974;&#957;/&#959;%20&#918;&#945;&#967;&#945;&#961;&#943;&#945;&#962;%20&#954;&#945;&#953;%20&#951;%20&#917;&#955;&#953;&#963;&#963;&#940;&#946;&#949;&#964;.doc" TargetMode="External"/><Relationship Id="rId5" Type="http://schemas.openxmlformats.org/officeDocument/2006/relationships/hyperlink" Target="file:///&#966;&#940;&#954;&#949;&#955;&#959;&#962;%20&#952;&#961;&#951;&#963;&#954;&#949;&#965;&#964;&#953;&#954;&#974;&#957;/&#963;&#964;&#959;&#957;%20&#921;&#959;&#961;&#948;&#940;&#957;&#951;%20&#960;&#959;&#964;&#945;&#956;&#972;.doc" TargetMode="External"/><Relationship Id="rId6" Type="http://schemas.openxmlformats.org/officeDocument/2006/relationships/hyperlink" Target="file:///&#966;&#940;&#954;&#949;&#955;&#959;&#962;%20&#952;&#961;&#951;&#963;&#954;&#949;&#965;&#964;&#953;&#954;&#974;&#957;/&#924;&#949;&#964;&#945;&#957;&#959;&#949;&#943;&#964;&#949;.doc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51;%20&#921;&#949;&#961;&#959;&#965;&#963;&#945;&#955;&#942;&#956;.doc" TargetMode="External"/><Relationship Id="rId2" Type="http://schemas.openxmlformats.org/officeDocument/2006/relationships/hyperlink" Target="file:///&#966;&#940;&#954;&#949;&#955;&#959;&#962;%20&#952;&#961;&#951;&#963;&#954;&#949;&#965;&#964;&#953;&#954;&#974;&#957;/&#951;%20&#914;&#951;&#952;&#945;&#957;&#943;&#945;.doc" TargetMode="External"/><Relationship Id="rId3" Type="http://schemas.openxmlformats.org/officeDocument/2006/relationships/hyperlink" Target="file:///&#966;&#940;&#954;&#949;&#955;&#959;&#962;%20&#952;&#961;&#951;&#963;&#954;&#949;&#965;&#964;&#953;&#954;&#974;&#957;/&#951;%20&#917;&#956;&#956;&#945;&#959;&#973;&#962;.doc" TargetMode="External"/><Relationship Id="rId4" Type="http://schemas.openxmlformats.org/officeDocument/2006/relationships/hyperlink" Target="file:///&#966;&#940;&#954;&#949;&#955;&#959;&#962;%20&#952;&#961;&#951;&#963;&#954;&#949;&#965;&#964;&#953;&#954;&#974;&#957;/&#951;%20&#925;&#945;&#950;&#945;&#961;&#941;&#964;.doc" TargetMode="External"/><Relationship Id="rId5" Type="http://schemas.openxmlformats.org/officeDocument/2006/relationships/hyperlink" Target="file:///&#966;&#940;&#954;&#949;&#955;&#959;&#962;%20&#952;&#961;&#951;&#963;&#954;&#949;&#965;&#964;&#953;&#954;&#974;&#957;/&#951;%20&#955;&#943;&#956;&#957;&#951;%20&#915;&#949;&#957;&#957;&#951;&#963;&#945;&#961;&#941;&#964;.doc" TargetMode="External"/><Relationship Id="rId6" Type="http://schemas.openxmlformats.org/officeDocument/2006/relationships/hyperlink" Target="file:///&#966;&#940;&#954;&#949;&#955;&#959;&#962;%20&#952;&#961;&#951;&#963;&#954;&#949;&#965;&#964;&#953;&#954;&#974;&#957;/&#951;%20&#922;&#945;&#957;&#940;.doc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59;%20&#928;&#941;&#964;&#961;&#959;&#962;%20&#954;&#945;&#953;.doc" TargetMode="External"/><Relationship Id="rId2" Type="http://schemas.openxmlformats.org/officeDocument/2006/relationships/hyperlink" Target="file:///&#966;&#940;&#954;&#949;&#955;&#959;&#962;%20&#952;&#961;&#951;&#963;&#954;&#949;&#965;&#964;&#953;&#954;&#974;&#957;/&#959;%20&#921;&#969;&#940;&#957;&#957;&#951;&#962;%20&#954;&#945;&#953;%20&#959;%20&#921;&#940;&#954;&#969;&#946;&#959;&#962;.doc" TargetMode="External"/><Relationship Id="rId3" Type="http://schemas.openxmlformats.org/officeDocument/2006/relationships/hyperlink" Target="file:///&#966;&#940;&#954;&#949;&#955;&#959;&#962;%20&#952;&#961;&#951;&#963;&#954;&#949;&#965;&#964;&#953;&#954;&#974;&#957;/&#905;&#964;&#945;&#957;%20&#968;&#945;&#961;&#940;&#962;.doc" TargetMode="External"/><Relationship Id="rId4" Type="http://schemas.openxmlformats.org/officeDocument/2006/relationships/hyperlink" Target="file:///&#966;&#940;&#954;&#949;&#955;&#959;&#962;%20&#952;&#961;&#951;&#963;&#954;&#949;&#965;&#964;&#953;&#954;&#974;&#957;/&#959;%20&#924;&#945;&#964;&#952;&#945;&#943;&#959;&#962;.doc" TargetMode="External"/><Relationship Id="rId5" Type="http://schemas.openxmlformats.org/officeDocument/2006/relationships/hyperlink" Target="file:///&#966;&#940;&#954;&#949;&#955;&#959;&#962;%20&#952;&#961;&#951;&#963;&#954;&#949;&#965;&#964;&#953;&#954;&#974;&#957;/&#959;%20&#921;&#959;&#973;&#948;&#945;&#962;%20&#959;%20&#921;&#963;&#954;&#945;&#961;&#953;&#974;&#964;&#951;&#962;.doc" TargetMode="External"/><Relationship Id="rId6" Type="http://schemas.openxmlformats.org/officeDocument/2006/relationships/hyperlink" Target="file:///&#966;&#940;&#954;&#949;&#955;&#959;&#962;%20&#952;&#961;&#951;&#963;&#954;&#949;&#965;&#964;&#953;&#954;&#974;&#957;/&#959;%20&#920;&#969;&#956;&#940;&#962;.doc" TargetMode="External"/><Relationship Id="rId7" Type="http://schemas.openxmlformats.org/officeDocument/2006/relationships/hyperlink" Target="file:///&#966;&#940;&#954;&#949;&#955;&#959;&#962;%20&#952;&#961;&#951;&#963;&#954;&#949;&#965;&#964;&#953;&#954;&#974;&#957;/&#959;%20&#913;&#957;&#948;&#961;&#941;&#945;&#962;.doc" TargetMode="External"/><Relationship Id="rId8" Type="http://schemas.openxmlformats.org/officeDocument/2006/relationships/hyperlink" Target="file:///&#966;&#940;&#954;&#949;&#955;&#959;&#962;%20&#952;&#961;&#951;&#963;&#954;&#949;&#965;&#964;&#953;&#954;&#974;&#957;/&#959;%20&#921;&#969;&#940;&#957;&#957;&#951;&#962;.doc" TargetMode="External"/><Relationship Id="rId9" Type="http://schemas.openxmlformats.org/officeDocument/2006/relationships/hyperlink" Target="file:///&#966;&#940;&#954;&#949;&#955;&#959;&#962;%20&#952;&#961;&#951;&#963;&#954;&#949;&#965;&#964;&#953;&#954;&#974;&#957;/&#959;%20&#934;&#943;&#955;&#953;&#960;&#960;&#959;&#962;.doc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32;&#945;%20&#921;&#949;&#961;&#959;&#963;&#972;&#955;&#965;&#956;&#945;.doc" TargetMode="External"/><Relationship Id="rId2" Type="http://schemas.openxmlformats.org/officeDocument/2006/relationships/hyperlink" Target="file:///&#966;&#940;&#954;&#949;&#955;&#959;&#962;%20&#952;&#961;&#951;&#963;&#954;&#949;&#965;&#964;&#953;&#954;&#974;&#957;/&#932;&#959;&#957;%20&#960;&#945;&#961;&#945;&#955;&#965;&#964;&#953;&#954;&#972;.doc" TargetMode="External"/><Relationship Id="rId3" Type="http://schemas.openxmlformats.org/officeDocument/2006/relationships/hyperlink" Target="file:///&#966;&#940;&#954;&#949;&#955;&#959;&#962;%20&#952;&#961;&#951;&#963;&#954;&#949;&#965;&#964;&#953;&#954;&#974;&#957;/&#905;&#964;&#945;&#957;%20&#964;&#949;&#955;&#974;&#957;&#951;&#962;.doc" TargetMode="External"/><Relationship Id="rId4" Type="http://schemas.openxmlformats.org/officeDocument/2006/relationships/hyperlink" Target="file:///&#966;&#940;&#954;&#949;&#955;&#959;&#962;%20&#952;&#961;&#951;&#963;&#954;&#949;&#965;&#964;&#953;&#954;&#974;&#957;/&#919;%20%20&#914;&#951;&#952;&#945;&#957;&#943;&#945;.doc" TargetMode="External"/><Relationship Id="rId5" Type="http://schemas.openxmlformats.org/officeDocument/2006/relationships/hyperlink" Target="file:///&#966;&#940;&#954;&#949;&#955;&#959;&#962;%20&#952;&#961;&#951;&#963;&#954;&#949;&#965;&#964;&#953;&#954;&#974;&#957;/&#919;%20%20&#924;&#945;&#961;&#943;&#945;%20&#954;&#945;&#953;.doc" TargetMode="External"/><Relationship Id="rId6" Type="http://schemas.openxmlformats.org/officeDocument/2006/relationships/hyperlink" Target="file:///&#966;&#940;&#954;&#949;&#955;&#959;&#962;%20&#952;&#961;&#951;&#963;&#954;&#949;&#965;&#964;&#953;&#954;&#974;&#957;/&#932;&#959;%20&#957;&#949;&#961;&#972;%20&#941;&#947;&#953;&#957;&#949;%20&#954;&#961;&#945;&#963;&#943;.doc" TargetMode="External"/><Relationship Id="rId7" Type="http://schemas.openxmlformats.org/officeDocument/2006/relationships/hyperlink" Target="file:///&#966;&#940;&#954;&#949;&#955;&#959;&#962;%20&#952;&#961;&#951;&#963;&#954;&#949;&#965;&#964;&#953;&#954;&#974;&#957;/&#927;&#957;&#959;&#956;&#940;&#963;&#964;&#951;&#954;&#949;.doc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63;&#964;&#951;&#957;%20&#960;&#972;&#955;&#951;%20&#917;&#956;&#956;&#945;&#959;&#973;1.doc" TargetMode="External"/><Relationship Id="rId2" Type="http://schemas.openxmlformats.org/officeDocument/2006/relationships/hyperlink" Target="file:///&#966;&#940;&#954;&#949;&#955;&#959;&#962;%20&#952;&#961;&#951;&#963;&#954;&#949;&#965;&#964;&#953;&#954;&#974;&#957;/&#932;&#959;&#957;%20&#922;&#973;&#961;&#953;1.doc" TargetMode="External"/><Relationship Id="rId3" Type="http://schemas.openxmlformats.org/officeDocument/2006/relationships/hyperlink" Target="file:///&#966;&#940;&#954;&#949;&#955;&#959;&#962;%20&#952;&#961;&#951;&#963;&#954;&#949;&#965;&#964;&#953;&#954;&#974;&#957;/&#924;&#940;&#961;&#954;&#959;&#962;.doc" TargetMode="External"/><Relationship Id="rId4" Type="http://schemas.openxmlformats.org/officeDocument/2006/relationships/hyperlink" Target="file:///&#966;&#940;&#954;&#949;&#955;&#959;&#962;%20&#952;&#961;&#951;&#963;&#954;&#949;&#965;&#964;&#953;&#954;&#974;&#957;/&#931;&#964;&#951;&#957;%20&#949;&#955;&#955;&#951;&#957;&#953;&#954;&#942;%20&#947;&#955;&#974;&#963;&#963;1.doc" TargetMode="External"/><Relationship Id="rId5" Type="http://schemas.openxmlformats.org/officeDocument/2006/relationships/hyperlink" Target="file:///&#966;&#940;&#954;&#949;&#955;&#959;&#962;%20&#952;&#961;&#951;&#963;&#954;&#949;&#965;&#964;&#953;&#954;&#974;&#957;/&#927;%20&#924;&#940;&#961;&#954;&#959;&#962;%20%20&#964;&#959;%20%20&#955;&#953;&#959;&#957;&#964;&#940;&#961;&#953;.doc" TargetMode="External"/><Relationship Id="rId6" Type="http://schemas.openxmlformats.org/officeDocument/2006/relationships/hyperlink" Target="file:///&#966;&#940;&#954;&#949;&#955;&#959;&#962;%20&#952;&#961;&#951;&#963;&#954;&#949;&#965;&#964;&#953;&#954;&#974;&#957;/&#932;&#959;%20&#902;&#947;&#953;&#959;%20&#928;&#957;&#949;&#973;&#956;&#945;.doc" TargetMode="External"/><Relationship Id="rId7" Type="http://schemas.openxmlformats.org/officeDocument/2006/relationships/hyperlink" Target="file:///&#966;&#940;&#954;&#949;&#955;&#959;&#962;%20&#952;&#961;&#951;&#963;&#954;&#949;&#965;&#964;&#953;&#954;&#974;&#957;/&#931;&#945;&#957;%20&#960;&#973;&#961;&#953;&#957;&#949;&#962;%20&#947;&#955;&#974;&#963;&#963;&#949;&#962;%20&#960;&#940;&#957;&#969;%20&#945;&#960;&#972;%20&#964;&#945;%20&#954;&#949;&#966;&#940;&#955;&#953;&#945;%20&#964;&#959;&#965;&#962;.doc" TargetMode="External"/><Relationship Id="rId8" Type="http://schemas.openxmlformats.org/officeDocument/2006/relationships/hyperlink" Target="file:///&#966;&#940;&#954;&#949;&#955;&#959;&#962;%20&#952;&#961;&#951;&#963;&#954;&#949;&#965;&#964;&#953;&#954;&#974;&#957;/&#932;&#945;%20&#921;&#949;&#961;&#959;&#963;&#972;&#955;&#965;&#956;1.doc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13;&#947;&#940;&#960;&#949;&#962;.doc" TargetMode="External"/><Relationship Id="rId2" Type="http://schemas.openxmlformats.org/officeDocument/2006/relationships/hyperlink" Target="file:///&#966;&#940;&#954;&#949;&#955;&#959;&#962;%20&#952;&#961;&#951;&#963;&#954;&#949;&#965;&#964;&#953;&#954;&#974;&#957;/&#932;&#959;&#957;%20&#934;&#943;&#955;&#953;&#960;&#960;&#959;.doc" TargetMode="External"/><Relationship Id="rId3" Type="http://schemas.openxmlformats.org/officeDocument/2006/relationships/hyperlink" Target="file:///&#966;&#940;&#954;&#949;&#955;&#959;&#962;%20&#952;&#961;&#951;&#963;&#954;&#949;&#965;&#964;&#953;&#954;&#974;&#957;/&#932;&#953;&#962;%20&#960;&#961;&#959;&#966;&#951;&#964;&#949;&#943;&#949;&#962;%20&#964;&#959;&#965;%20&#919;&#963;&#945;&#912;&#945;.doc" TargetMode="External"/><Relationship Id="rId4" Type="http://schemas.openxmlformats.org/officeDocument/2006/relationships/hyperlink" Target="file:///&#966;&#940;&#954;&#949;&#955;&#959;&#962;%20&#952;&#961;&#951;&#963;&#954;&#949;&#965;&#964;&#953;&#954;&#974;&#957;/&#916;&#953;&#974;&#954;&#964;&#951;&#962;%20&#964;&#959;&#965;.doc" TargetMode="External"/><Relationship Id="rId5" Type="http://schemas.openxmlformats.org/officeDocument/2006/relationships/hyperlink" Target="file:///&#966;&#940;&#954;&#949;&#955;&#959;&#962;%20&#952;&#961;&#951;&#963;&#954;&#949;&#965;&#964;&#953;&#954;&#974;&#957;/&#960;&#961;&#959;&#962;%20&#964;&#951;%20&#916;&#945;&#956;&#945;&#963;&#954;&#972;.doc" TargetMode="External"/><Relationship Id="rId6" Type="http://schemas.openxmlformats.org/officeDocument/2006/relationships/hyperlink" Target="file:///&#966;&#940;&#954;&#949;&#955;&#959;&#962;%20&#952;&#961;&#951;&#963;&#954;&#949;&#965;&#964;&#953;&#954;&#974;&#957;/&#927;%20&#913;&#957;&#945;&#957;&#943;&#945;&#962;.doc" TargetMode="External"/><Relationship Id="rId7" Type="http://schemas.openxmlformats.org/officeDocument/2006/relationships/hyperlink" Target="file:///&#966;&#940;&#954;&#949;&#955;&#959;&#962;%20&#952;&#961;&#951;&#963;&#954;&#949;&#965;&#964;&#953;&#954;&#974;&#957;/&#927;%20&#928;&#945;&#973;&#955;&#959;&#962;.doc" TargetMode="External"/><Relationship Id="rId8" Type="http://schemas.openxmlformats.org/officeDocument/2006/relationships/hyperlink" Target="file:///&#966;&#940;&#954;&#949;&#955;&#959;&#962;%20&#952;&#961;&#951;&#963;&#954;&#949;&#965;&#964;&#953;&#954;&#974;&#957;/&#913;&#960;&#972;%20&#964;&#951;&#957;%20&#922;&#973;&#960;&#961;&#959;.doc" TargetMode="External"/><Relationship Id="rId9" Type="http://schemas.openxmlformats.org/officeDocument/2006/relationships/hyperlink" Target="file:///&#966;&#940;&#954;&#949;&#955;&#959;&#962;%20&#952;&#961;&#951;&#963;&#954;&#949;&#965;&#964;&#953;&#954;&#974;&#957;/&#947;&#953;&#959;&#962;%20&#964;&#951;&#962;%20&#960;&#945;&#961;&#951;&#947;&#959;&#961;&#953;&#940;&#962;.doc" TargetMode="External"/><Relationship Id="rId10" Type="http://schemas.openxmlformats.org/officeDocument/2006/relationships/hyperlink" Target="file:///&#966;&#940;&#954;&#949;&#955;&#959;&#962;%20&#952;&#961;&#951;&#963;&#954;&#949;&#965;&#964;&#953;&#954;&#974;&#957;/&#924;&#941;&#963;&#945;%20&#963;.doc" TargetMode="External"/><Relationship Id="rId11" Type="http://schemas.openxmlformats.org/officeDocument/2006/relationships/hyperlink" Target="file:///&#966;&#940;&#954;&#949;&#955;&#959;&#962;%20&#952;&#961;&#951;&#963;&#954;&#949;&#965;&#964;&#953;&#954;&#974;&#957;/&#931;&#964;&#945;%20&#923;&#973;&#963;&#964;&#961;&#945;.doc" TargetMode="External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966;&#940;&#954;&#949;&#955;&#959;&#962;%20&#952;&#961;&#951;&#963;&#954;&#949;&#965;&#964;&#953;&#954;&#974;&#957;/&#904;&#957;&#945;&#962;%20&#924;&#945;&#954;&#949;&#948;&#972;&#957;&#945;&#962;%20&#963;&#964;&#940;&#952;&#951;&#954;&#949;%20&#945;&#960;&#941;&#957;&#945;&#957;&#964;&#943;%20&#964;&#959;&#965;%20&#954;&#945;&#953;%20&#964;&#959;&#957;%20&#960;&#945;&#961;&#945;&#954;&#945;&#955;&#959;&#973;&#963;&#949;.doc" TargetMode="External"/><Relationship Id="rId2" Type="http://schemas.openxmlformats.org/officeDocument/2006/relationships/hyperlink" Target="file:///&#966;&#940;&#954;&#949;&#955;&#959;&#962;%20&#952;&#961;&#951;&#963;&#954;&#949;&#965;&#964;&#953;&#954;&#974;&#957;/&#927;&#953;%20&#934;&#943;&#955;&#953;&#960;&#960;&#959;&#953;.doc" TargetMode="External"/><Relationship Id="rId3" Type="http://schemas.openxmlformats.org/officeDocument/2006/relationships/hyperlink" Target="file:///&#966;&#940;&#954;&#949;&#955;&#959;&#962;%20&#952;&#961;&#951;&#963;&#954;&#949;&#965;&#964;&#953;&#954;&#974;&#957;/&#927;&#953;%20&#934;&#943;&#955;&#953;&#960;&#960;&#959;1.doc" TargetMode="External"/><Relationship Id="rId4" Type="http://schemas.openxmlformats.org/officeDocument/2006/relationships/hyperlink" Target="file:///&#966;&#940;&#954;&#949;&#955;&#959;&#962;%20&#952;&#961;&#951;&#963;&#954;&#949;&#965;&#964;&#953;&#954;&#974;&#957;/&#932;&#951;&#957;%20&#921;&#963;&#960;&#945;&#957;&#943;&#945;%20&#954;&#945;&#953;%20&#964;&#951;&#957;%20&#921;&#964;&#945;&#955;&#943;&#945;.doc" TargetMode="External"/><Relationship Id="rId5" Type="http://schemas.openxmlformats.org/officeDocument/2006/relationships/hyperlink" Target="file:///&#966;&#940;&#954;&#949;&#955;&#959;&#962;%20&#952;&#961;&#951;&#963;&#954;&#949;&#965;&#964;&#953;&#954;&#974;&#957;/&#927;%20&#945;&#961;&#949;&#959;&#960;&#945;&#947;&#943;&#964;&#951;&#962;%20&#916;&#953;&#959;&#957;&#973;&#963;&#953;&#959;&#962;.doc" TargetMode="External"/><Relationship Id="rId6" Type="http://schemas.openxmlformats.org/officeDocument/2006/relationships/hyperlink" Target="file:///&#966;&#940;&#954;&#949;&#955;&#959;&#962;%20&#952;&#961;&#951;&#963;&#954;&#949;&#965;&#964;&#953;&#954;&#974;&#957;/&#948;&#949;&#954;&#945;&#964;&#941;&#963;&#963;&#949;&#961;&#953;&#962;.doc" TargetMode="External"/><Relationship Id="rId7" Type="http://schemas.openxmlformats.org/officeDocument/2006/relationships/hyperlink" Target="file:///&#966;&#940;&#954;&#949;&#955;&#959;&#962;%20&#952;&#961;&#951;&#963;&#954;&#949;&#965;&#964;&#953;&#954;&#974;&#957;/&#931;&#964;&#945;%20&#949;&#955;&#955;&#951;&#957;&#953;&#954;&#940;.doc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dbbd71"/>
                </a:solidFill>
                <a:latin typeface="Arial"/>
              </a:rPr>
              <a:t>ΘΡΗΣΚΕΥΤΙΚΑ  Δ΄ ΤΑΞΗΣ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ffffff"/>
                </a:solidFill>
                <a:latin typeface="Tahoma"/>
              </a:rPr>
              <a:t>Ο  ΔΡΟΜΟΣ  ΤΟΥ  ΧΡΙΣΤΟΥ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Δρόμος πίστης δρόμος θυσίας</a:t>
            </a:r>
            <a:br>
              <a:rPr sz="2800"/>
            </a:b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Ο άγιος Χριστόφορος</a:t>
            </a:r>
            <a:br>
              <a:rPr sz="2800"/>
            </a:b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Η καμπάνα και η χαρά της Κυριακής</a:t>
            </a:r>
            <a:br>
              <a:rPr sz="2800"/>
            </a:b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Με τους αδελφούς</a:t>
            </a:r>
            <a:br>
              <a:rPr sz="2800"/>
            </a:b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Ανεφοδιασμός στο δρόμο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ον πήρε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αγκαλιά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Χριστός , όταν ήταν μικρό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Ιγνάτιος χειροτονήθηκε επίσκοπος σ’ αυτή την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πόλ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Έτσ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ι ονόμασε η εκκλησία μας τον Ιγνάτι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υτούς προστατεύει ο άγιος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Χριστόφορο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Κάθε Κυριακή την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ξαναγιορτάζουμ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Μας στέλνει το γιορτινό της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μήνυμ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νήκουμε όλοι σ΄αυτή την μεγάλη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οικογένει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Έτσι λέγεται αυτός που γιορτάζει τον άγιο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στη Σίφν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π’ αυτή την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βασίλισσα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κυνηγήθηκε ο Ηλία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Εκεί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έμεινε σαράντα μέρες ο Ηλία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dbbd71"/>
                </a:solidFill>
                <a:latin typeface="Arial"/>
              </a:rPr>
              <a:t>Το μικρό παιδί στην εκκλησία</a:t>
            </a:r>
            <a:br>
              <a:rPr sz="3200"/>
            </a:br>
            <a:r>
              <a:rPr b="0" lang="el-GR" sz="3200" spc="-1" strike="noStrike">
                <a:solidFill>
                  <a:srgbClr val="dbbd71"/>
                </a:solidFill>
                <a:latin typeface="Arial"/>
              </a:rPr>
              <a:t>Το εξωκλήσι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Μ’ αυτό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γινόμαστε χριστιανοί, μέλη της εκκλησία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Μας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 τρέφει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και μας θεραπεύε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Καθαρίζει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και δίνει ζωή στην πλάσ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ιώχνει το φόβο του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σκοταδιο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Φανερώνει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τη χαρά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Μέσα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απ΄αυτήν βγαίνουμε καθαροί και φωτισμένο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όσα είναι τα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εξωκλήσια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στην Αίγιν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ίναι ο προστάτης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άγιο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της Αίγινα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dbbd71"/>
                </a:solidFill>
                <a:latin typeface="Arial"/>
              </a:rPr>
              <a:t>Το μοναστήρ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Έτσι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λέγεται το ευλογημένο σώμα και αίμα του Κυρίο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κολουθία της εκκλησίας μετά την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 δύση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του ήλιο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Χώρο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υποδοχής των προσκυνητών στα μοναστήρι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κεντρικός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ναός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ου μοναστηριο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Διαβάζεται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μετά το βραδινό φαγητ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dbbd71"/>
                </a:solidFill>
                <a:latin typeface="Arial"/>
              </a:rPr>
              <a:t>Το χαμένο πρόβατο</a:t>
            </a:r>
            <a:br>
              <a:rPr sz="3600"/>
            </a:br>
            <a:r>
              <a:rPr b="0" lang="el-GR" sz="3600" spc="-1" strike="noStrike">
                <a:solidFill>
                  <a:srgbClr val="dbbd71"/>
                </a:solidFill>
                <a:latin typeface="Arial"/>
              </a:rPr>
              <a:t>Η παραβολή των ζιζανίων</a:t>
            </a:r>
            <a:br>
              <a:rPr sz="3600"/>
            </a:br>
            <a:r>
              <a:rPr b="0" lang="el-GR" sz="3600" spc="-1" strike="noStrike">
                <a:solidFill>
                  <a:srgbClr val="dbbd71"/>
                </a:solidFill>
                <a:latin typeface="Arial"/>
              </a:rPr>
              <a:t>Αιδέσιος και Φρουμέντιος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Ήταν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 μαθητή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του Χριστού και ευαγγελιστή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Πόλη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που συχνά επισκεπτόταν ο Ιωάννη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ους αγαπούσε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ιδιαίτερα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ο Ιωάννη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ην ζητάμε , όταν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μετανοούμ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ίναι ο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γεωργό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της παραβολής των ζιζανίω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ίναι ο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εχθρό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που σπέρνει τα ζιζάνι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υτοί έφεραν τον χριστιανισμό στην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Αιθιοπί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dbbd71"/>
                </a:solidFill>
                <a:latin typeface="Arial"/>
              </a:rPr>
              <a:t>Οι άγιοι Κύριλλος και Μεθόδιος</a:t>
            </a:r>
            <a:br>
              <a:rPr sz="3200"/>
            </a:br>
            <a:r>
              <a:rPr b="0" lang="el-GR" sz="3200" spc="-1" strike="noStrike">
                <a:solidFill>
                  <a:srgbClr val="dbbd71"/>
                </a:solidFill>
                <a:latin typeface="Arial"/>
              </a:rPr>
              <a:t>Η ορθοδοξία στην Αφρική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292392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νομάστηκαν φωτιστές και προστάτες των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Σλάβω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Η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πόλη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καταγωγής των Κυρίλλου και Μεθοδίο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ίναι η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έδρα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του Πατριαρχείου της Αφρική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Αυτοί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φέρνουν την χριστιανική πίστη σ’ όλο τον κόσμ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dbbd71"/>
                </a:solidFill>
                <a:latin typeface="Arial"/>
              </a:rPr>
              <a:t>Αντρέας ο Πρωτόκλητος </a:t>
            </a:r>
            <a:br>
              <a:rPr sz="4000"/>
            </a:br>
            <a:r>
              <a:rPr b="0" lang="el-GR" sz="4000" spc="-1" strike="noStrike">
                <a:solidFill>
                  <a:srgbClr val="dbbd71"/>
                </a:solidFill>
                <a:latin typeface="Arial"/>
              </a:rPr>
              <a:t>Κυριακή των Βαϊων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2327040"/>
            <a:ext cx="8229600" cy="39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ίναι ο πολιούχος άγιος της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Πάτρα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Έτσι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νομάστηκε ο απόστολος Ανδρέα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κεί κήρυξε ο απόστολος Ανδρέα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ην ημέρα αυτή τιμάται η μνήμη του αποστόλου Ανδρέ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ον ανάστησε ο Χριστό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Λόφος της Ιερουσαλή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Μεγάλη γιορτή των Ισραηλιτώ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dbbd71"/>
                </a:solidFill>
                <a:latin typeface="Arial"/>
              </a:rPr>
              <a:t>Πάσχα, η χαρά της Ανάστασης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ημαίνει πέρασμα στα ιουδαϊκά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Η Κυριακή που ο λαός κρατά βάγι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Έτσι λέγεται το χρυσοκέντητο ύφασμα με το Χριστό νεκρ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πρώτος που έγινε μαθητής του Χριστο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αγαπημένος μαθητής του Χριστο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νομάστηκε ο Χριστός από το μέρος που έζησ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600" spc="-1" strike="noStrike">
                <a:solidFill>
                  <a:srgbClr val="dbbd71"/>
                </a:solidFill>
                <a:latin typeface="Arial"/>
              </a:rPr>
              <a:t>ΤΕΛΟΣ</a:t>
            </a:r>
            <a:endParaRPr b="0" lang="en-US" sz="15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dbbd71"/>
                </a:solidFill>
                <a:latin typeface="Arial"/>
              </a:rPr>
              <a:t>Σήματα πορείας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Θεός μας οδηγεί όπως τα σήματα πορείας με τις παρακάτω εντολέ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Ν΄αγαπάς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το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......... με όλη την καρδιά σο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Ν΄αγαπάτε ο ένας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τον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.........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Να θέλετε να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σα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.................... οι άνθρωποι, έτσι όπως τους συμπεριφέρεστε κι εσεί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Αν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...................... τους άλλους, θα σας συγχωρεί κι εσάς ο Θεό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dbbd71"/>
                </a:solidFill>
                <a:latin typeface="Arial"/>
              </a:rPr>
              <a:t>Από τα λόγια των προφητών</a:t>
            </a:r>
            <a:br>
              <a:rPr sz="4000"/>
            </a:br>
            <a:r>
              <a:rPr b="0" lang="el-GR" sz="4000" spc="-1" strike="noStrike">
                <a:solidFill>
                  <a:srgbClr val="dbbd71"/>
                </a:solidFill>
                <a:latin typeface="Arial"/>
              </a:rPr>
              <a:t>Ιωάννης ο Πρόδρομος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Οι προφήτες έδειξαν 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το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.........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Ανάφερε ονόματα 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προφητώ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Ο τελευταίος προφήτη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Γι΄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αυτόν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μιλούσαν περισότερο οι προφήτε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Οι 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γονείς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του Προδρόμο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Εκεί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βάφτιζε ο Ιωάννης τους πιστού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Έτσι άρχιζε το 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κήρυγμα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του Ιωάννη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dbbd71"/>
                </a:solidFill>
                <a:latin typeface="Arial"/>
              </a:rPr>
              <a:t>Οι τόποι που περπάτησε οΧριστός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280" y="2498400"/>
            <a:ext cx="7929720" cy="33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Η μεγάλη 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πόλη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μ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το λαμπρό να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Η 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πατρίδα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του Λαζάρο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Η 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πόλη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που ο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Χριστός εμφανίστηκε μετά την Ανάστασή το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Η 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πατρίδα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της Παναγίας και του Ιωσή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Η 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λίμνη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που στις όχθες της χόρτασαν χιλιάδες πιστοί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Η 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πόλη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που ο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Χριστός έκανε το πρώτο θαύμ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dbbd71"/>
                </a:solidFill>
                <a:latin typeface="Arial"/>
              </a:rPr>
              <a:t>Ελάτε μαζί μου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ι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γιοι του Ιωνά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που έγιναν οι πρώτοι μαθητές του Χριστο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ι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γιοι του Ζεβεδαίου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που έγιναν μαθητές του Χριστο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ο επάγγελμα του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Ανδρέα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μαθητής του Χριστού που ήταν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τελώνη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στο επάγγελμ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μαθητής που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πρόδωσε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το Χριστ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μαθητής που ονομάστηκε «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άπιστο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νομάστηκε «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Πρωτόκλητο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αγαπημένος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μαθητής του Χριστο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φίλο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του Ναθαναή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dbbd71"/>
                </a:solidFill>
                <a:latin typeface="Arial"/>
              </a:rPr>
              <a:t>Ο Χριστός συναντά τους ανθρώπους</a:t>
            </a:r>
            <a:br>
              <a:rPr sz="3200"/>
            </a:br>
            <a:r>
              <a:rPr b="0" lang="el-GR" sz="3200" spc="-1" strike="noStrike">
                <a:solidFill>
                  <a:srgbClr val="dbbd71"/>
                </a:solidFill>
                <a:latin typeface="Arial"/>
              </a:rPr>
              <a:t>Ο Σωτήρας μπαίνει στο σπίτι του Ζακχαίου</a:t>
            </a:r>
            <a:br>
              <a:rPr sz="3200"/>
            </a:br>
            <a:r>
              <a:rPr b="0" lang="el-GR" sz="3200" spc="-1" strike="noStrike">
                <a:solidFill>
                  <a:srgbClr val="dbbd71"/>
                </a:solidFill>
                <a:latin typeface="Arial"/>
              </a:rPr>
              <a:t>Λάζαρος, ο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dbbd71"/>
                </a:solidFill>
                <a:latin typeface="Arial"/>
              </a:rPr>
              <a:t>φίλος του Χριστού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9200" y="2426760"/>
            <a:ext cx="7929360" cy="34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Η πόλη στην οποία υπήρχε η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δεξαμενή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Βηθεσδά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ον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θεράπευσε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ο Χριστός στη δεξαμενή Βηθεσδά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Ήταν στο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επάγγελμα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ο Ζακχαίο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ο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χωριό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του Λαζάρο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ι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αδερφέ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του Λαζάρο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ο θαύμα του Χριστο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την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Κανά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ης Γαλιλαία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Έτσι ονομάστηκε ο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Λάζαρος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Περπατώντας με το Χριστό</a:t>
            </a:r>
            <a:br>
              <a:rPr sz="2800"/>
            </a:b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Πυξίδα στην πορεία μας</a:t>
            </a:r>
            <a:br>
              <a:rPr sz="2800"/>
            </a:b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Πεντηκοστή, το καινούριο ξεκίνημα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Εκεί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πήγαιναν ο Κλέοπας και ο Λουκά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ον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συνάντησαν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στο δρόμ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α ονόματα των τεσσάρων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ευαγγελιστών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’ αυτήν τη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γλώσσα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γράφτηκαν τα Ευαγγέλι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νάφερε τα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σύμβολα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των ευαγγελιστώ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μφανίστηκε την Πεντηκοστή και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φώτισε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ους μαθητέ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Έτσι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μφανίστηκε το Άγιο Πνεύμα την Πεντηκοστή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Η </a:t>
            </a:r>
            <a:r>
              <a:rPr b="0" lang="el-GR" sz="2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πόλη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στην οποία έγινε το θαύμα της Πεντηκοστή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Χριστιανικές κοινότητες αγάπης</a:t>
            </a:r>
            <a:br>
              <a:rPr sz="2800"/>
            </a:b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Η χαρά της συνάντησης</a:t>
            </a:r>
            <a:br>
              <a:rPr sz="2800"/>
            </a:b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Η πορεία προς το φως</a:t>
            </a:r>
            <a:br>
              <a:rPr sz="2800"/>
            </a:b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Βαρνάβας, ο φίλος του Παύλου </a:t>
            </a:r>
            <a:br>
              <a:rPr sz="2800"/>
            </a:br>
            <a:r>
              <a:rPr b="0" lang="el-GR" sz="2800" spc="-1" strike="noStrike">
                <a:solidFill>
                  <a:srgbClr val="dbbd71"/>
                </a:solidFill>
                <a:latin typeface="Arial"/>
              </a:rPr>
              <a:t>Ο ακούραστος οδοιπόρος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Έτσι ονομάζονταν οι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 συγκεντρώσεις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των πρώτων χριστιανώ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ον 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συνάντησε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ο Αιθίοπας καθώς επέστρεφε στην πατρίδα το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Διάβαζε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ο Αιθίοπας καθισμένος στην άμαξά το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Ήταν 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ο Σαούλ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πριν γίνει χριστιανό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Στο δρόμο προς την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 πόλη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αυτή συνέβη το θαύμα στον Σαού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Ήταν ο 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«άνθρωπος του Θεού»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που θεράπευσε τον Σαού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ο χριστιανικό 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όνομα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του Σαού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πό αυτό το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 νησί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καταγόταν ο Βαρνάβα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Η εβραϊκή σημασία του ονόματος 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«Βαρνάβας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Έτσι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φυγάδευσαν οι χριστιανοί τον Παύλο από τη Δαμασκ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Στην πόλη αυτή 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λιθοβολήθηκε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ο Παύλο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4 - Θέση υποσέλιδου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ΜΟΚΙΑΣ ΓΙΑΝΝΗ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6560" y="404280"/>
            <a:ext cx="8079120" cy="9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dbbd71"/>
                </a:solidFill>
                <a:latin typeface="Arial"/>
              </a:rPr>
              <a:t>Ο απόστολος Παύλος στην Ευρώπη</a:t>
            </a:r>
            <a:br>
              <a:rPr sz="3200"/>
            </a:br>
            <a:r>
              <a:rPr b="0" lang="el-GR" sz="3200" spc="-1" strike="noStrike">
                <a:solidFill>
                  <a:srgbClr val="dbbd71"/>
                </a:solidFill>
                <a:latin typeface="Arial"/>
              </a:rPr>
              <a:t>Επιστολές στους αδελφούς</a:t>
            </a:r>
            <a:br>
              <a:rPr sz="3200"/>
            </a:br>
            <a:r>
              <a:rPr b="0" lang="el-GR" sz="3200" spc="-1" strike="noStrike">
                <a:solidFill>
                  <a:srgbClr val="dbbd71"/>
                </a:solidFill>
                <a:latin typeface="Arial"/>
              </a:rPr>
              <a:t>Δρόμος πίστης, δρόμος θυσίας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νάφερε το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 όραμα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του αποστόλου Παύλου στη Τρωάδα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Ήταν ο 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πρώτος σταθμός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ου Παύλου στην Ευρώπη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νάφερε τις 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πόλεις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που επισκέφτηκε ο Παύλος στην Ελλάδα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νάφερε 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τα κράτη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που επισκέφτηκε ο Παύλος στην Ευρώπη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Αυτός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πίστεψε στα λόγια του Παύλου στην Αθήνα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όσες 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επιστολές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ου Παύλου διασώθηκα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Σ’ αυτή τη </a:t>
            </a:r>
            <a:r>
              <a:rPr b="0" lang="el-GR" sz="20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γλώσσα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έγραφε τις επιστολές του ο Παύλο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09:18:32Z</dcterms:created>
  <dc:creator>User</dc:creator>
  <dc:description/>
  <dc:language>en-US</dc:language>
  <cp:lastModifiedBy>ΑΜ</cp:lastModifiedBy>
  <dcterms:modified xsi:type="dcterms:W3CDTF">2010-03-09T22:27:04Z</dcterms:modified>
  <cp:revision>43</cp:revision>
  <dc:subject/>
  <dc:title>Σήματα πορείας</dc:title>
</cp:coreProperties>
</file>